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F07-147C-4FB2-A97B-FFECE5DD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5DC-E28C-4AD8-BC55-5CEC13CB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FB8-B704-4B02-B26A-C8C1A85B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F67-0669-49C8-BA02-F581CF92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26A6-CD88-44CA-82B4-E58B40E1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E111-AE37-417F-A349-A44306DD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44BF-0FEA-4D6D-A2BA-2CE78664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1E66-4AE5-4F9B-AD46-2F6924B1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2AAB-3F66-496D-85E0-B6627A68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EA9E-7D42-4F2D-907B-26A4FD32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4F80-B414-475C-B28E-DD0F0464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277-9C6A-47B4-8EE8-51CC4FC5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2C10-14C5-425D-A6A7-41782C19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5A46-C720-4915-8559-B31345D8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E405-D8CE-4503-93A5-7A33F59E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6973-61C7-48CF-A8AF-3942A4BD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1429-C10A-4E7A-BBD3-94FF3F6D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DA3-DE2E-4190-8514-371BE5D5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56A-76DB-4C6C-A053-CD991E8F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437-4958-44BA-9777-D093ECD3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87F-9CD8-4D67-A10F-1549984F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8A2-5CF5-430D-B40A-60E50071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48E-FB94-41B7-ADAC-8F660104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CC4-901A-4987-B07D-2A373649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9B2D-4A76-4531-A276-329BB6BB1A0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2E39-2250-467B-8447-7AF1065D0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78CB-1D43-43DA-99D1-1DB739D68DE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17EA-8B8C-43C8-A573-890348904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83" name="Rectangle 7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12"/>
          <p:cNvSpPr/>
          <p:nvPr/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300" spc="-1" strike="noStrike">
                <a:solidFill>
                  <a:srgbClr val="333399"/>
                </a:solidFill>
                <a:latin typeface="Garamond"/>
              </a:rPr>
              <a:t>Напредък в изпълнението на ОП РЧР за 2012 г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Заседание на Съвета за координация при управление на средствата от 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(СКУСЕ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Garamond"/>
              </a:rPr>
              <a:t>София, 16 май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11"/>
          <p:cNvGraphicFramePr/>
          <p:nvPr/>
        </p:nvGraphicFramePr>
        <p:xfrm>
          <a:off x="304920" y="1600200"/>
          <a:ext cx="8305560" cy="486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00200"/>
                    <a:ext cx="83055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F330-CA57-4EAA-9C78-9897659A61A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3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7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11"/>
          <p:cNvGraphicFramePr/>
          <p:nvPr/>
        </p:nvGraphicFramePr>
        <p:xfrm>
          <a:off x="380880" y="1371600"/>
          <a:ext cx="8001000" cy="49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371600"/>
                    <a:ext cx="80010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1684-F3CE-4BE7-A612-E97513C66F68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3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8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13"/>
          <p:cNvGraphicFramePr/>
          <p:nvPr/>
        </p:nvGraphicFramePr>
        <p:xfrm>
          <a:off x="0" y="1676520"/>
          <a:ext cx="8881920" cy="492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8881920" cy="49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FA53-2139-48AF-882B-520393814175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4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9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13"/>
          <p:cNvGraphicFramePr/>
          <p:nvPr/>
        </p:nvGraphicFramePr>
        <p:xfrm>
          <a:off x="304920" y="1143000"/>
          <a:ext cx="8515080" cy="524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51508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4E0D-7820-45F2-BDB9-76858EF3EDE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4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0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11"/>
          <p:cNvGraphicFramePr/>
          <p:nvPr/>
        </p:nvGraphicFramePr>
        <p:xfrm>
          <a:off x="152280" y="1523880"/>
          <a:ext cx="8610840" cy="5035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61084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62A-5AB0-45C6-9F2C-608DF2FF409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5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1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11"/>
          <p:cNvGraphicFramePr/>
          <p:nvPr/>
        </p:nvGraphicFramePr>
        <p:xfrm>
          <a:off x="228600" y="1828800"/>
          <a:ext cx="8534520" cy="47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28800"/>
                    <a:ext cx="8534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E55F-98C3-4B0E-ACC5-E84DAC89963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5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2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11"/>
          <p:cNvGraphicFramePr/>
          <p:nvPr/>
        </p:nvGraphicFramePr>
        <p:xfrm>
          <a:off x="152280" y="1523880"/>
          <a:ext cx="8460000" cy="491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46000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43D0-267C-474C-9180-255C0FB3612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6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3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11"/>
          <p:cNvGraphicFramePr/>
          <p:nvPr/>
        </p:nvGraphicFramePr>
        <p:xfrm>
          <a:off x="0" y="1447920"/>
          <a:ext cx="8686800" cy="519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868680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3CE5-0938-44C6-B8EC-85A32EDF23E8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7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4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Object 11"/>
          <p:cNvGraphicFramePr/>
          <p:nvPr/>
        </p:nvGraphicFramePr>
        <p:xfrm>
          <a:off x="0" y="1581120"/>
          <a:ext cx="8991720" cy="497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81120"/>
                    <a:ext cx="899172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D5E2-6F2A-448F-AFEB-D007CAAC92F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ПРИОРИТЕТНА ОС 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7</a:t>
            </a:r>
            <a:br>
              <a:rPr sz="2800"/>
            </a:b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5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11"/>
          <p:cNvGraphicFramePr/>
          <p:nvPr/>
        </p:nvGraphicFramePr>
        <p:xfrm>
          <a:off x="0" y="1789200"/>
          <a:ext cx="8686800" cy="506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89200"/>
                    <a:ext cx="868680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34D5-7185-420C-B1DB-40C6FA10F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8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6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B8EF-9022-4CA5-9EA0-5DCA52FA0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ПРОГРАМИРАНЕ НА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92" name="Rectangle 5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1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6" name=""/>
          <p:cNvGraphicFramePr/>
          <p:nvPr/>
        </p:nvGraphicFramePr>
        <p:xfrm>
          <a:off x="457200" y="1951200"/>
          <a:ext cx="8229600" cy="4144320"/>
        </p:xfrm>
        <a:graphic>
          <a:graphicData uri="http://schemas.openxmlformats.org/drawingml/2006/table">
            <a:tbl>
              <a:tblPr/>
              <a:tblGrid>
                <a:gridCol w="5943600"/>
                <a:gridCol w="22860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юджет на ОП РЧ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74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5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грамира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раз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цент от бюджета на ОП РЧ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4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тартирали процедури за предоставяне на безвъзмездна финансова помощ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бр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бюдж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923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C2BD-9DAF-44A6-93AB-CF72EF0D7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ДЕЙНОСТИ ПО КОМУНИКАЦИЯ И ПУБЛИЧНОСТ ПРЕЗ 201</a:t>
            </a: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2</a:t>
            </a: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 г.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719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рекламни радио и телевизионни клип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рубрики и репортаж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7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документални филм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Близо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60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0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публикации в интернет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4 мащабни информационни събития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Информационни дни по 21 схеми и обучения по още 5 схем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Годишно информационно събитие за популяризиране на ОП РЧР – май 2012 г., проведено във всички областни градове. Обща продължителност два месец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71" name="Rectangle 5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5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CB4D-2620-45B6-87DE-2FC7BE996F0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01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1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5" name=""/>
          <p:cNvGraphicFramePr/>
          <p:nvPr/>
        </p:nvGraphicFramePr>
        <p:xfrm>
          <a:off x="457200" y="1951200"/>
          <a:ext cx="8001000" cy="3701880"/>
        </p:xfrm>
        <a:graphic>
          <a:graphicData uri="http://schemas.openxmlformats.org/drawingml/2006/table">
            <a:tbl>
              <a:tblPr/>
              <a:tblGrid>
                <a:gridCol w="4013280"/>
                <a:gridCol w="2373120"/>
                <a:gridCol w="16146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оговоре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027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азплате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52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ерифицирани разх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5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ертифицирани разх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11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31"/>
          <p:cNvGraphicFramePr/>
          <p:nvPr/>
        </p:nvGraphicFramePr>
        <p:xfrm>
          <a:off x="228600" y="1981080"/>
          <a:ext cx="8686800" cy="441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8686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C2CC-1F7B-4F57-A9D6-2D461710752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1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4"/>
          <p:cNvGraphicFramePr/>
          <p:nvPr/>
        </p:nvGraphicFramePr>
        <p:xfrm>
          <a:off x="228600" y="1600200"/>
          <a:ext cx="8763120" cy="510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00200"/>
                    <a:ext cx="8763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CDF7-BEBA-438B-9759-78280EF29493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2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15"/>
          <p:cNvGraphicFramePr/>
          <p:nvPr/>
        </p:nvGraphicFramePr>
        <p:xfrm>
          <a:off x="152280" y="1523880"/>
          <a:ext cx="8612280" cy="5145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61228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0DFD-5079-4F6F-851A-4AD5978F37A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1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3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16"/>
          <p:cNvGraphicFramePr/>
          <p:nvPr/>
        </p:nvGraphicFramePr>
        <p:xfrm>
          <a:off x="41400" y="1214280"/>
          <a:ext cx="9024840" cy="450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14280"/>
                    <a:ext cx="902484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B48C-AB58-406B-ACCE-12B416A556C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1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4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11"/>
          <p:cNvGraphicFramePr/>
          <p:nvPr/>
        </p:nvGraphicFramePr>
        <p:xfrm>
          <a:off x="228600" y="1523880"/>
          <a:ext cx="868680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3880"/>
                    <a:ext cx="8686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CC41-B54B-4CCC-866F-755CB8C285E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2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5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11"/>
          <p:cNvGraphicFramePr/>
          <p:nvPr/>
        </p:nvGraphicFramePr>
        <p:xfrm>
          <a:off x="0" y="1371600"/>
          <a:ext cx="8915400" cy="491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89154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AD79-C961-445C-94ED-D6A2F010B52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2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6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anaki Yanakiev</dc:creator>
  <dc:description/>
  <dc:language>en-US</dc:language>
  <cp:lastModifiedBy>v.olshevski</cp:lastModifiedBy>
  <dcterms:modified xsi:type="dcterms:W3CDTF">2013-05-10T14:33:04Z</dcterms:modified>
  <cp:revision>3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